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2F0-D6C6-4601-A5EB-D2CC3B15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D0F-584C-4A09-8DF7-120FF34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2CF-9B79-419D-8CD7-6DB24303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E91-5F93-44B6-B7A6-A13C6C2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14B-F9B4-40A9-9E5F-36E4F98D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74B-4870-454F-861C-48051A6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CDF-5EB9-4A89-A6F6-3D62F52B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12E-5930-4F8C-9AF2-0ECD87C3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2AB-3797-44F6-A648-A08EA6A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0D9-7D31-4153-A73D-34B6D816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9E5-2817-43EE-8EA8-12D2009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ABE-8BC7-4277-9780-A6CD94B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41F-5A40-49A3-A0A9-1AA2B211A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1148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Monotype Corsiva"/>
              </a:rPr>
              <a:t>La Rutina de Winnie the Pooh y sus ami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9720" y="0"/>
            <a:ext cx="7596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867040" cy="121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2133720"/>
            <a:ext cx="1523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Tigger se despierta en la manana. El est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á muy cansado. Se despierta a las siete y media. No le gusta desperta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alphaModFix amt="49000"/>
          </a:blip>
          <a:stretch/>
        </p:blipFill>
        <p:spPr>
          <a:xfrm>
            <a:off x="5562720" y="51814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5880" y="609480"/>
            <a:ext cx="228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nie the Pooh se levanta enseguida de sus cama. El se levanta a las ocho. El duerma mu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124360" cy="215280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1752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Monotype Corsiva"/>
              </a:rPr>
              <a:t>Winnie The Pooh se desayuna. Le gusta el miel. Es sus comida favorita. El se desayuna a las nu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0"/>
            <a:ext cx="75960" cy="670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2076480" cy="2200320"/>
          </a:xfrm>
          <a:prstGeom prst="rect">
            <a:avLst/>
          </a:prstGeom>
          <a:ln w="76320">
            <a:solidFill>
              <a:srgbClr val="ff99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066680" y="3809880"/>
            <a:ext cx="2210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Monotype Corsiva"/>
              </a:rPr>
              <a:t>Piglet se ba</a:t>
            </a:r>
            <a:r>
              <a:rPr b="1" lang="en-US" sz="2000" spc="-1" strike="noStrike">
                <a:solidFill>
                  <a:srgbClr val="800080"/>
                </a:solidFill>
                <a:latin typeface="Monotype Corsiva"/>
                <a:ea typeface="Arial"/>
              </a:rPr>
              <a:t>ña. La agua está calliente. El se gusta la agua calliente. El baño es relajante. Se lava con una barra de jabón.Se lava el pelo con champ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19720" y="0"/>
            <a:ext cx="7596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2666880" cy="1982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1904760" cy="2333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09480"/>
            <a:ext cx="243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Winnie the Pooh se mira. Se mira s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  <a:ea typeface="Arial"/>
              </a:rPr>
              <a:t>í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mismo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762120"/>
            <a:ext cx="1523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igger se sienta en el suelo. Es c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  <a:ea typeface="Arial"/>
              </a:rPr>
              <a:t>ómodo. Le gusta.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267080" y="0"/>
            <a:ext cx="15264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1981080" cy="195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2523960" cy="2152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33720" y="990720"/>
            <a:ext cx="16761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ie the Pooh se pone la ropa. Se pone una camiseta rojo. Es la camiseta favor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3505320"/>
            <a:ext cx="236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Winnie the Pooh y Piglet se diviertan en el oto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43400" y="0"/>
            <a:ext cx="7632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857320" cy="17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590560" cy="1673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3200400"/>
            <a:ext cx="25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Winnie the Pooh, Piglet, Eeyore, y Tigger se acuestan a la no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219320"/>
            <a:ext cx="1600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Eeyore se duerme a la noche. El est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á muy cansado. Se duerme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9:46Z</dcterms:created>
  <dc:creator>zeliffmad</dc:creator>
  <dc:description/>
  <dc:language>en-US</dc:language>
  <cp:lastModifiedBy>zeliffmad</cp:lastModifiedBy>
  <dcterms:modified xsi:type="dcterms:W3CDTF">2012-04-05T15:36:47Z</dcterms:modified>
  <cp:revision>5</cp:revision>
  <dc:subject/>
  <dc:title>Slide 1</dc:title>
</cp:coreProperties>
</file>